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99D2-E9BC-417F-ADD4-97CAA74C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C63-A434-44D9-87A8-4D9188B3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10FE0-CA5C-4CA3-BD79-755E5962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EC86D-1AC9-4579-8B09-965EF2EB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E3F09-F324-4B30-A112-2EF69B32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62368-9544-4F42-B491-34B111DC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F840C-FC2A-43F4-9369-22F8ED48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61392-713F-4BA7-8D4E-C5B185D1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EA531-CB08-4A37-96D0-7752A4C7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8ADE4-28B6-4FD0-B38C-CE2F72D8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97692-DF11-4BB3-8B6A-965B0738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D1607-91D0-4627-91D4-6554832D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1C3-6FD6-46BB-B8D7-4614E2EB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AE5C8-D199-449F-9961-D6F735AD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D5F88-7EFB-4CFE-857F-B6FC9601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245D9-4502-4431-B7D5-389BC775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64837-9A6E-4578-B3ED-55EEDC23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3200F-7E03-44CC-883C-31DC21DC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B2104-15FF-40B8-BD27-1D38D2AC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EA622-4682-44EF-AA5D-09ADED02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F5430-D19B-45A4-A575-EB236CD8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95A33-54F8-4F25-960B-1BE94F94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10BA0-5406-4111-80EC-45D49E52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45E-A182-4C29-8011-45E0D0F7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AFFBE-4077-4979-82F5-3C91B0B9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000F9-B767-48EC-A7BD-E21570F8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2912E-D6C5-4137-981E-C523CF53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B4D61-04D8-4ABC-869D-ECB583BA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A4D2B-2756-4C62-B778-7A8BAF2F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81C64-D328-427D-921C-D57C3D9D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FC5C4-CF16-4E22-80AE-D6F8439B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1ADC2-5D28-4A32-8873-100D327F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618E1-C1EF-454B-88DE-7FA9AC30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DB0D8-89F8-4DD6-9E2D-93D57935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BC54-50D5-41D6-AFB1-0C0EF946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0A2E1-51F9-4C0E-82C4-D72C9B1B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019E8-599F-438D-8E36-F0D1D418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099C0-4049-4AA3-BECF-122A139F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CAD9F-9ACB-4B14-BD2D-92C0C987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C9E60-AD2C-40F3-8C93-995BA35A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63345-6C27-4DA6-B6A2-E1D5BC46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D16AF-D5E4-4AF6-A2F6-320A9EDB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6C2C5-C428-4A9A-A7D5-D484463E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84E34-93AA-4858-BDED-9F0205EA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0AB04-B97D-4C30-A6C1-654D9D11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378C-4837-4723-8410-934721DA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8E04A-6CCC-4993-9B85-270A6D25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90CA8-294A-464C-B6D0-C626CC65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946DB-C1C5-4B62-9AA3-14BDD635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3362D-0AC0-4654-8994-823D9586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7E94A-FC82-4D2C-B230-A825DBC5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788E9-7144-4CD9-AFE0-FAF658C1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73909-CDC5-49D0-89C6-2C8875DC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0766E-4CF5-41BE-BC7A-045700DA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16A3A-2A4D-4DDA-ADE7-A2CCDFB4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2B157-3601-4390-8719-B4D6A585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E565-9191-4417-A7B6-C931F70B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C7CE9-6AAD-4D95-88E4-B07073B7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F6F75-E298-4684-859A-34D2C844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DAC66-84B5-4FCB-B71C-40ADBDBB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B6A51-A2E3-4913-BB53-791CC135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EA662-DEDF-4FFD-95A7-A54AAC50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8DE60-6CC5-48FF-8E67-65807A31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A6C65-60FF-4DF5-AB4D-09EF76FC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83504-E961-42A2-B9BF-EDBA881C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DA9B7-2B61-49F9-8500-D163725D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AB597-1DF0-413C-8F44-49B3992B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EC42-271B-41B7-9067-9B34415F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9625C-56BD-4840-8F2A-E5BEA57C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29179-F0A0-4167-9624-74ACFD30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01FF0-11DB-4DF7-815B-E26331EB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67968-2FE1-49A2-A52E-0AFEB180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B081E-9F41-4DE3-B8ED-256817C0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43751C-40B6-42F4-B689-3E32DC35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08CC9-4BBA-4CC0-A95B-EBC278A8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69FADD-08A9-4720-9DAC-D190261E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9EE69-23B6-4825-B568-E75FC2F7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ACBC2D-518F-4048-B5CE-CAEB25C8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D339-434E-4DCF-86D6-4C6DA6DA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58EB01-D9C0-4DB6-85BE-3B7C6C8A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1E0D4E-A844-462F-9E37-C68C98BE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A23379-3297-47C1-95BC-C27509BD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F1CB0-B921-4C67-BF69-AFEA8099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88324-B033-45E0-B2C5-A23E8071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DF73B5-175A-4199-935E-09B535EF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5F6637-673E-443B-932F-275A7CCF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21CFF0-2682-48E9-BBCD-6C440D78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4911D-DD68-46AF-BBB8-741D14E1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0864A7-4501-4A38-84DD-8BC94EFB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281F-9597-414C-BDDA-E93BBAFB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A8AF9E-3D5D-439D-B93E-9A86CA16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C29A3-B773-46AD-B1DB-1F373B24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91782-7A2A-4D34-9753-B918A858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0AA754-4B63-47F0-A8A7-0CE721D0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B96009-8D46-4B31-8009-663D549B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3FA74E-6BB2-4AEC-AFC8-F4DCCF3E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338C43-FD74-401C-8E0F-3A047219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BF321-E257-45B0-ADA8-95C89315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8920B-1615-4909-BADC-524C0FD9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3B221-EA21-43D3-A734-8599CF5E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5F12-2E46-44AF-A2DC-C7AF4FEB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B5BCF4-1D47-4080-A030-7D412859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124259-A1A2-4BFD-A555-93029830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9421D-DC15-4065-837E-79C9E982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B2B60D-0993-45B1-9950-D4D540BB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760E6F-8CA1-4D48-B23D-467C68DB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47BDB9-F91B-4DD5-BEB8-70F8B7D6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030404-0DB3-4DFC-BA88-840EDCDA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9EB01-6848-4028-91A5-01D31DD7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FF1825-8D3F-45EB-90EF-B0041CDE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551D1D-35A9-4E3C-9A35-50FB9AC4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AC5-01E9-4219-A68A-71DC363D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25C1-D141-4AA5-B662-61B17B98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C1282B-0812-4B6A-9CCA-61F2D30E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243A92-FBD7-4225-B9BE-6CB4260B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462E5A-6D02-4ED1-B1A3-2ACC3E8E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DB7CC-63AD-4DEF-94C6-D2A57C09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579481-8D4B-4C97-97AE-D00734FA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1C0D5E-18A2-4E2A-808E-7952352C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B1C35C-8D8F-4292-ADE9-F0FB7CA8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BFAC13-2F0A-4CA9-B85A-958A7EB9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A51BBC-8008-48AA-B2EB-7A22876A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0A14F9-EBDD-4457-8B4F-DB1E4814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9AF7-2210-4B7E-B12F-65954FBE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4E48E7-6790-481F-8617-3866ADB1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0FBEBB-93DB-4549-9605-FCD60445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16C989-F593-4145-8133-733D95FA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7F2BB7-B362-45CD-BC3E-BB201E84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8812B8-33FC-4DBE-B29D-5AA81E1D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293792-0005-4DCD-88FC-BE682327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518113-2DC7-4B19-A8FA-3F5FA0FB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9DD2F2-9E3B-416B-BD2B-C263355C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210142-D080-457E-9673-C4F7BC1F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520406-9E02-4FFD-8ABF-12955690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EE25-253F-4D57-AFFF-D8416B5A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AF46FD-7A22-498A-A4F3-C23555C6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13744B-5DF8-49AD-B34B-9E579662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41CDFB-5D75-468D-A1A0-4314D730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5BC556-EB68-42DE-957C-D9DC7833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924FE0-01DB-432E-BD9D-B8B77AB3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46A6DF-2AEF-4B4A-94E6-0EF043C5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496D70-FA01-4B10-AEC4-BC128ED3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64ACB5-8996-48C3-95FF-03F6F345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F228E7-BE9C-4074-A663-D0E495AC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5640C7-52D8-44ED-A177-3B06E96B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AAF7-DAC0-470D-B8D9-A2C1D2B8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5EAE8F-2F04-45A8-9D62-1F0B56F8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4ADCAD-1A77-4A0F-AEC4-F6A49806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409A93-0DB1-4457-81F7-0BBFCAB5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6CDC11-8989-4EFF-93F8-0B694010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755697-4A00-42FB-84F4-6E606740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FA20C7-A1CA-441A-8939-B55AF2DF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6EA048-99B2-4772-9D94-928FCF48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E07ACE-313F-4382-AF4D-D82CB173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FAF38B-3D42-462B-81AB-84EA546E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C471BB-90CE-47D2-A797-7C4D8630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D12C-5056-4404-B8F3-B65D07E2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981F99-B744-47D3-8C56-FA0451FE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F9946C-1202-41CE-9648-35F26984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91F2A0-FCF6-476A-A93C-4003A340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158912-B123-47A7-AD30-58FBD434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B8B7DA-9CAD-4298-8474-B88FECA3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898FFE-41D9-4D41-81DA-7988A1B9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8E13A3-9F59-42A1-812E-F7EBEAB0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321B0C-2AA0-412C-8B9E-E032940F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67D997-1D5F-41DD-A8A3-F2E157B8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4AB6F0-FB0E-4E07-8BBF-F9ACC87D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75C11-F232-4337-A5D5-23DFCBF7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7D3849-8182-448F-B22A-3DE40DF9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C5197-3800-4E50-B262-CD96BF24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BC034F-C059-4F10-B5FB-2FC75A83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906A1-91F1-4AC6-92FB-9B0F385B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76E5E-1FF8-41C1-9DE6-08410ABE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75EB-7017-49DA-A7A7-8CDBD7EC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A49D-9E17-4A4B-AF5E-5BADB5E1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D3A-2C72-4236-8B4A-31FA0366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595E-276A-4EF8-A349-5DEEED5C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3065-89F2-4924-A917-341DE3DD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EE516-AB69-46C3-A74F-C7D05925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164D-2F8C-4A43-9F41-0774797A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AD150-6C8A-4B0D-9CAE-5A23A96D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DF20B-FE89-4190-BFC9-07D4D36A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FDC9-FE50-4631-AA58-A96AF9FE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D43CB-40AC-4310-BB10-225376E6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87EE1-22D0-4E4A-A949-B9D7C3AB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6E46D-2223-4902-99B7-F69A9D4B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BC6-6ED2-4628-841C-6D4B2DFA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073C4-AB6E-4242-BE47-4805A2B6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92B12-AD61-486B-B68A-08805711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603DC-C75C-4265-BCE3-54FC58FF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E5118-82C7-42D7-95B6-DDFAF7A8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3B0B1-AF43-4B70-A686-FEE82717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ECCB1-630C-4556-8F95-DC85A451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28E2B-6268-42FC-A112-3B358064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C7BA5-14FB-4882-B70B-4E00BFA1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EF3D4-E998-4060-95E8-C29ACC28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8DB29-94EB-4F82-BA07-B23E31D1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89D-1489-47EA-BDE9-2B10B5E2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56ADA-50FE-4D79-A771-BC0BFB1D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CE6C7-0FE7-4229-9697-EE2DFD77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CB31C-C8F5-4775-AE26-84480113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A9146-6B03-4FF4-9816-B7553898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D7F34-CA6F-462B-ADBB-D736E8F4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E2D39-A73B-47D5-A133-C83B6B93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22F72-2816-4AC0-9956-F46411E8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BABD9-9B06-4A63-AC46-ECE35910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8031D-2F5A-43B8-A64E-A2797848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AAF03-95A7-4D78-B9C3-99901E64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C0D-161F-4D3F-AED1-DC6480C6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C7C5C-C4D8-432C-B821-E01CF602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CCD27-82E5-48C4-9D43-0A8C9569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BA980-4446-419C-8187-710C8AD9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A1871-C7B3-4220-891C-F64A1D00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17C0B-9E17-47A1-912E-7D89BA15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2592C-EFD3-4025-B132-B92CF647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4B072-566D-400E-B17A-E7E8B54B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ADCAB-7EE9-4A46-90D3-D48A1C51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F3D4A-58ED-4EAA-A238-5057570C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5427C-54A3-4AB4-9991-A17FB21A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E0D-8421-4A78-8DF7-1BCA6660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65680-25C3-45EA-9679-E9AC7BE5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25348-8613-4A23-A267-F48F408A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EBA7C-0D5B-4A0E-8F5F-F4CC42A3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F90F3-1FB6-466B-B2AA-FCCED391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15E8-994C-4002-A10F-79E72C91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87178-99FE-4B26-908D-CE21476D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A8C86-D660-4446-B47C-83FCA8ED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5F640-229D-45E6-83D2-99FB5CE8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29309-8E3F-411F-945A-EB3AC68D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5804D-A64D-4857-8A55-9D7AC66A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E14-3120-4ADA-AEE8-EA86E165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9B033-1163-4E3C-9406-119B9235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F184E-24AB-4053-AA1F-E84B3531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22ADC-8A3B-4694-BA8B-FA95BABF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5FB44-A398-435C-ADC6-EEC0043B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57183-8DF4-4C17-AC1A-E6164C35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DF564-0C4A-47D7-BF23-FFAF0435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72D4E-B086-4A5B-8B83-78B305D1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D0E4B-56A1-480F-84DA-12910500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4417D-ACA0-49E4-97BF-27BC9796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0A1E2-7985-43B5-BF95-7C134227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4AF5-39F7-4DFA-84FF-1562015E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4E6B7-8577-4153-BC6A-CD4D6EAF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5FACE-8E2F-4317-A0A4-2BA104B3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6EF03-05B8-4C46-ACA8-AD363136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73435-BB27-4507-B3BC-D31E0FAF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71091-80B1-4230-A1F8-CCE953E6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CA012-6FDC-4E41-944A-E3B7463A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7C78B-E7CC-491B-92DB-FBD5BF42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53B2D-76E9-4377-A794-EF9AF7CC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AD83F-0F31-4438-872F-0B4FB872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8EB93-AC17-4162-AF61-0476E924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21C7-EEE2-496F-84B0-8F7AD2A79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4694-C156-4ACC-B300-53906D7DA8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866D-B501-44EE-B1A6-C24F1C1C73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BE9A-9BC3-4A43-8B65-EAC59285BB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D065-D4FA-4687-BF7C-8B6995BD0A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3F90-26B6-4634-9663-F397498DFF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F022-D726-4B35-AC47-4B0A2F640A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A16B-CDB7-4818-BB68-9842A73ED9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96E6-FDA7-4299-83D5-5D98BAA2BA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FC30-0655-4836-B6C7-06714B7C35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710C-9917-4433-A5F6-D74244B2D8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CA3A-AD56-45C1-83AB-F22FFBB51F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A055-690A-470E-8686-C108180E1C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9ED5-BF3F-4F48-9BA7-1816A78836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3B76-F521-4809-A7C9-1E0A3FA37C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E44D-5A05-49D3-A06D-3E75FB2F5A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83D9-41D5-4EA8-BC7E-5FB0364386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8FC5-7BF5-42D0-93F1-4F10664AF9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A95E-B2D0-473E-BA93-3DCDEC97F2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37ED-AE33-4C8D-82AA-FC90434C8B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5AE2-F6D4-4FFB-A246-B4C5265023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0859-9DE3-4464-BDF1-ACD2C77692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B896-8BE8-43D2-83BE-7802F8E9EA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A0C9-3DBB-4CC6-AF4C-D34A890E19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3AA8-A3A4-45BD-9D7B-D5320D8B33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D62A-2CA8-4864-A0FD-7E22424571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49BC-D576-44DB-9ACC-AC7E788A16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FD87-4D43-40A9-A598-8D89E266F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D4DD-A162-4CD1-98A5-B2458D0515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E2A5-DE6D-44BB-9011-C50B2D7E6F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8473-127E-4407-93CD-1EF633A95B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12C6-E0AC-403B-A04B-D6E23D53CF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A66C-E5EB-4255-B982-F0744F954F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32C5-264B-4CC0-90DC-000CFFBE5F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41F5-5821-4FF6-ACD9-9D99067164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6520-313E-43D1-AF5F-CD6B8D6A2D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C9CF-7872-43C9-A97E-B1DB402EA6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C864-BC5A-4462-B23E-C2450A3DD6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1FF9-1D08-4B60-B22C-A02A81371D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3DC8-6F07-4A0E-8E2C-BA8F5202BE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671400" y="2857680"/>
            <a:ext cx="7801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1" descr=""/>
          <p:cNvPicPr/>
          <p:nvPr/>
        </p:nvPicPr>
        <p:blipFill>
          <a:blip r:embed="rId1"/>
          <a:stretch/>
        </p:blipFill>
        <p:spPr>
          <a:xfrm>
            <a:off x="314280" y="824040"/>
            <a:ext cx="8515440" cy="5819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5" descr=""/>
          <p:cNvPicPr/>
          <p:nvPr/>
        </p:nvPicPr>
        <p:blipFill>
          <a:blip r:embed="rId2"/>
          <a:stretch/>
        </p:blipFill>
        <p:spPr>
          <a:xfrm>
            <a:off x="387360" y="3097080"/>
            <a:ext cx="8389800" cy="39240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5" descr=""/>
          <p:cNvPicPr/>
          <p:nvPr/>
        </p:nvPicPr>
        <p:blipFill>
          <a:blip r:embed="rId3"/>
          <a:stretch/>
        </p:blipFill>
        <p:spPr>
          <a:xfrm>
            <a:off x="371520" y="3511440"/>
            <a:ext cx="8388360" cy="3924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5" descr=""/>
          <p:cNvPicPr/>
          <p:nvPr/>
        </p:nvPicPr>
        <p:blipFill>
          <a:blip r:embed="rId4"/>
          <a:stretch/>
        </p:blipFill>
        <p:spPr>
          <a:xfrm>
            <a:off x="355680" y="3997440"/>
            <a:ext cx="8388360" cy="3920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5" descr=""/>
          <p:cNvPicPr/>
          <p:nvPr/>
        </p:nvPicPr>
        <p:blipFill>
          <a:blip r:embed="rId5"/>
          <a:stretch/>
        </p:blipFill>
        <p:spPr>
          <a:xfrm>
            <a:off x="482760" y="4483080"/>
            <a:ext cx="8388360" cy="8380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5" descr=""/>
          <p:cNvPicPr/>
          <p:nvPr/>
        </p:nvPicPr>
        <p:blipFill>
          <a:blip r:embed="rId6"/>
          <a:stretch/>
        </p:blipFill>
        <p:spPr>
          <a:xfrm>
            <a:off x="409680" y="5394240"/>
            <a:ext cx="8389800" cy="3920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5" descr=""/>
          <p:cNvPicPr/>
          <p:nvPr/>
        </p:nvPicPr>
        <p:blipFill>
          <a:blip r:embed="rId7"/>
          <a:stretch/>
        </p:blipFill>
        <p:spPr>
          <a:xfrm>
            <a:off x="465120" y="5900760"/>
            <a:ext cx="83898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1" descr=""/>
          <p:cNvPicPr/>
          <p:nvPr/>
        </p:nvPicPr>
        <p:blipFill>
          <a:blip r:embed="rId1"/>
          <a:stretch/>
        </p:blipFill>
        <p:spPr>
          <a:xfrm>
            <a:off x="314280" y="795240"/>
            <a:ext cx="8515440" cy="59914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5" descr=""/>
          <p:cNvPicPr/>
          <p:nvPr/>
        </p:nvPicPr>
        <p:blipFill>
          <a:blip r:embed="rId2"/>
          <a:stretch/>
        </p:blipFill>
        <p:spPr>
          <a:xfrm>
            <a:off x="246240" y="2906640"/>
            <a:ext cx="8389800" cy="3920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5" descr=""/>
          <p:cNvPicPr/>
          <p:nvPr/>
        </p:nvPicPr>
        <p:blipFill>
          <a:blip r:embed="rId3"/>
          <a:stretch/>
        </p:blipFill>
        <p:spPr>
          <a:xfrm>
            <a:off x="382680" y="3384720"/>
            <a:ext cx="8388360" cy="7347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5" descr=""/>
          <p:cNvPicPr/>
          <p:nvPr/>
        </p:nvPicPr>
        <p:blipFill>
          <a:blip r:embed="rId4"/>
          <a:stretch/>
        </p:blipFill>
        <p:spPr>
          <a:xfrm>
            <a:off x="301680" y="4156200"/>
            <a:ext cx="8389800" cy="3934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5" descr=""/>
          <p:cNvPicPr/>
          <p:nvPr/>
        </p:nvPicPr>
        <p:blipFill>
          <a:blip r:embed="rId5"/>
          <a:stretch/>
        </p:blipFill>
        <p:spPr>
          <a:xfrm>
            <a:off x="428760" y="4641840"/>
            <a:ext cx="8389800" cy="7365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5" descr=""/>
          <p:cNvPicPr/>
          <p:nvPr/>
        </p:nvPicPr>
        <p:blipFill>
          <a:blip r:embed="rId6"/>
          <a:stretch/>
        </p:blipFill>
        <p:spPr>
          <a:xfrm>
            <a:off x="520560" y="5564160"/>
            <a:ext cx="8388360" cy="7365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5" descr=""/>
          <p:cNvPicPr/>
          <p:nvPr/>
        </p:nvPicPr>
        <p:blipFill>
          <a:blip r:embed="rId7"/>
          <a:stretch/>
        </p:blipFill>
        <p:spPr>
          <a:xfrm>
            <a:off x="441360" y="6337440"/>
            <a:ext cx="83883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32140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1" descr=""/>
          <p:cNvPicPr/>
          <p:nvPr/>
        </p:nvPicPr>
        <p:blipFill>
          <a:blip r:embed="rId1"/>
          <a:stretch/>
        </p:blipFill>
        <p:spPr>
          <a:xfrm>
            <a:off x="571680" y="1071720"/>
            <a:ext cx="7934040" cy="5257800"/>
          </a:xfrm>
          <a:prstGeom prst="rect">
            <a:avLst/>
          </a:prstGeom>
          <a:ln w="0">
            <a:noFill/>
          </a:ln>
        </p:spPr>
      </p:pic>
      <p:pic>
        <p:nvPicPr>
          <p:cNvPr id="1103" name="图片 1" descr=""/>
          <p:cNvPicPr/>
          <p:nvPr/>
        </p:nvPicPr>
        <p:blipFill>
          <a:blip r:embed="rId2"/>
          <a:stretch/>
        </p:blipFill>
        <p:spPr>
          <a:xfrm>
            <a:off x="5619600" y="1071720"/>
            <a:ext cx="2886120" cy="20001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5" descr=""/>
          <p:cNvPicPr/>
          <p:nvPr/>
        </p:nvPicPr>
        <p:blipFill>
          <a:blip r:embed="rId3"/>
          <a:stretch/>
        </p:blipFill>
        <p:spPr>
          <a:xfrm>
            <a:off x="57240" y="1071720"/>
            <a:ext cx="5356080" cy="39204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5" descr=""/>
          <p:cNvPicPr/>
          <p:nvPr/>
        </p:nvPicPr>
        <p:blipFill>
          <a:blip r:embed="rId4"/>
          <a:stretch/>
        </p:blipFill>
        <p:spPr>
          <a:xfrm>
            <a:off x="41400" y="1557360"/>
            <a:ext cx="5354640" cy="39204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5" descr=""/>
          <p:cNvPicPr/>
          <p:nvPr/>
        </p:nvPicPr>
        <p:blipFill>
          <a:blip r:embed="rId5"/>
          <a:stretch/>
        </p:blipFill>
        <p:spPr>
          <a:xfrm>
            <a:off x="96840" y="2043000"/>
            <a:ext cx="5354640" cy="3924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5" descr=""/>
          <p:cNvPicPr/>
          <p:nvPr/>
        </p:nvPicPr>
        <p:blipFill>
          <a:blip r:embed="rId6"/>
          <a:stretch/>
        </p:blipFill>
        <p:spPr>
          <a:xfrm>
            <a:off x="79200" y="2457360"/>
            <a:ext cx="5356440" cy="39204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5" descr=""/>
          <p:cNvPicPr/>
          <p:nvPr/>
        </p:nvPicPr>
        <p:blipFill>
          <a:blip r:embed="rId7"/>
          <a:stretch/>
        </p:blipFill>
        <p:spPr>
          <a:xfrm>
            <a:off x="63360" y="2887560"/>
            <a:ext cx="5354640" cy="3920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5" descr=""/>
          <p:cNvPicPr/>
          <p:nvPr/>
        </p:nvPicPr>
        <p:blipFill>
          <a:blip r:embed="rId8"/>
          <a:stretch/>
        </p:blipFill>
        <p:spPr>
          <a:xfrm>
            <a:off x="119160" y="3390840"/>
            <a:ext cx="5354640" cy="3920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5" descr=""/>
          <p:cNvPicPr/>
          <p:nvPr/>
        </p:nvPicPr>
        <p:blipFill>
          <a:blip r:embed="rId9"/>
          <a:stretch/>
        </p:blipFill>
        <p:spPr>
          <a:xfrm>
            <a:off x="165240" y="3803760"/>
            <a:ext cx="8662680" cy="7524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5" descr=""/>
          <p:cNvPicPr/>
          <p:nvPr/>
        </p:nvPicPr>
        <p:blipFill>
          <a:blip r:embed="rId10"/>
          <a:stretch/>
        </p:blipFill>
        <p:spPr>
          <a:xfrm>
            <a:off x="149400" y="4657680"/>
            <a:ext cx="8662680" cy="7509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5" descr=""/>
          <p:cNvPicPr/>
          <p:nvPr/>
        </p:nvPicPr>
        <p:blipFill>
          <a:blip r:embed="rId11"/>
          <a:stretch/>
        </p:blipFill>
        <p:spPr>
          <a:xfrm>
            <a:off x="442800" y="5502240"/>
            <a:ext cx="8209080" cy="3920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5" descr=""/>
          <p:cNvPicPr/>
          <p:nvPr/>
        </p:nvPicPr>
        <p:blipFill>
          <a:blip r:embed="rId12"/>
          <a:stretch/>
        </p:blipFill>
        <p:spPr>
          <a:xfrm>
            <a:off x="426960" y="5987880"/>
            <a:ext cx="820728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Picture 1" descr=""/>
          <p:cNvPicPr/>
          <p:nvPr/>
        </p:nvPicPr>
        <p:blipFill>
          <a:blip r:embed="rId1"/>
          <a:stretch/>
        </p:blipFill>
        <p:spPr>
          <a:xfrm>
            <a:off x="785880" y="785880"/>
            <a:ext cx="7686720" cy="29718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5" descr=""/>
          <p:cNvPicPr/>
          <p:nvPr/>
        </p:nvPicPr>
        <p:blipFill>
          <a:blip r:embed="rId2"/>
          <a:stretch/>
        </p:blipFill>
        <p:spPr>
          <a:xfrm>
            <a:off x="266760" y="770040"/>
            <a:ext cx="8661240" cy="7509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5" descr=""/>
          <p:cNvPicPr/>
          <p:nvPr/>
        </p:nvPicPr>
        <p:blipFill>
          <a:blip r:embed="rId3"/>
          <a:stretch/>
        </p:blipFill>
        <p:spPr>
          <a:xfrm>
            <a:off x="177840" y="1614600"/>
            <a:ext cx="8663040" cy="7506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5" descr=""/>
          <p:cNvPicPr/>
          <p:nvPr/>
        </p:nvPicPr>
        <p:blipFill>
          <a:blip r:embed="rId4"/>
          <a:stretch/>
        </p:blipFill>
        <p:spPr>
          <a:xfrm>
            <a:off x="233280" y="2459160"/>
            <a:ext cx="8663040" cy="7506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5" descr=""/>
          <p:cNvPicPr/>
          <p:nvPr/>
        </p:nvPicPr>
        <p:blipFill>
          <a:blip r:embed="rId5"/>
          <a:stretch/>
        </p:blipFill>
        <p:spPr>
          <a:xfrm>
            <a:off x="396720" y="3295800"/>
            <a:ext cx="820764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4210200" cy="57247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4714920" y="1790640"/>
            <a:ext cx="4209840" cy="47815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"/>
          <p:cNvPicPr/>
          <p:nvPr/>
        </p:nvPicPr>
        <p:blipFill>
          <a:blip r:embed="rId3"/>
          <a:stretch/>
        </p:blipFill>
        <p:spPr>
          <a:xfrm>
            <a:off x="785880" y="2487600"/>
            <a:ext cx="1000080" cy="3081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4"/>
          <a:stretch/>
        </p:blipFill>
        <p:spPr>
          <a:xfrm>
            <a:off x="3286080" y="2500200"/>
            <a:ext cx="785880" cy="3081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5"/>
          <a:stretch/>
        </p:blipFill>
        <p:spPr>
          <a:xfrm>
            <a:off x="2143080" y="2857680"/>
            <a:ext cx="1000080" cy="3078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6"/>
          <a:stretch/>
        </p:blipFill>
        <p:spPr>
          <a:xfrm>
            <a:off x="3643200" y="3214800"/>
            <a:ext cx="785880" cy="3078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5" descr=""/>
          <p:cNvPicPr/>
          <p:nvPr/>
        </p:nvPicPr>
        <p:blipFill>
          <a:blip r:embed="rId7"/>
          <a:stretch/>
        </p:blipFill>
        <p:spPr>
          <a:xfrm>
            <a:off x="1276200" y="3606840"/>
            <a:ext cx="500040" cy="3078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5" descr=""/>
          <p:cNvPicPr/>
          <p:nvPr/>
        </p:nvPicPr>
        <p:blipFill>
          <a:blip r:embed="rId8"/>
          <a:stretch/>
        </p:blipFill>
        <p:spPr>
          <a:xfrm>
            <a:off x="3714840" y="3978360"/>
            <a:ext cx="500040" cy="3078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5" descr=""/>
          <p:cNvPicPr/>
          <p:nvPr/>
        </p:nvPicPr>
        <p:blipFill>
          <a:blip r:embed="rId9"/>
          <a:stretch/>
        </p:blipFill>
        <p:spPr>
          <a:xfrm>
            <a:off x="1357200" y="4357800"/>
            <a:ext cx="500040" cy="3078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5" descr=""/>
          <p:cNvPicPr/>
          <p:nvPr/>
        </p:nvPicPr>
        <p:blipFill>
          <a:blip r:embed="rId10"/>
          <a:stretch/>
        </p:blipFill>
        <p:spPr>
          <a:xfrm>
            <a:off x="3490920" y="5116680"/>
            <a:ext cx="785880" cy="3063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"/>
          <p:cNvPicPr/>
          <p:nvPr/>
        </p:nvPicPr>
        <p:blipFill>
          <a:blip r:embed="rId11"/>
          <a:stretch/>
        </p:blipFill>
        <p:spPr>
          <a:xfrm>
            <a:off x="2643120" y="5487840"/>
            <a:ext cx="928800" cy="3081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"/>
          <p:cNvPicPr/>
          <p:nvPr/>
        </p:nvPicPr>
        <p:blipFill>
          <a:blip r:embed="rId12"/>
          <a:stretch/>
        </p:blipFill>
        <p:spPr>
          <a:xfrm>
            <a:off x="3357720" y="5857920"/>
            <a:ext cx="785520" cy="3078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13"/>
          <a:stretch/>
        </p:blipFill>
        <p:spPr>
          <a:xfrm>
            <a:off x="2589120" y="6232680"/>
            <a:ext cx="9288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285840" y="919080"/>
            <a:ext cx="4172040" cy="32958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2"/>
          <a:stretch/>
        </p:blipFill>
        <p:spPr>
          <a:xfrm>
            <a:off x="4857840" y="928800"/>
            <a:ext cx="4143240" cy="2228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3"/>
          <a:stretch/>
        </p:blipFill>
        <p:spPr>
          <a:xfrm>
            <a:off x="1714680" y="928800"/>
            <a:ext cx="2071440" cy="307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"/>
          <p:cNvPicPr/>
          <p:nvPr/>
        </p:nvPicPr>
        <p:blipFill>
          <a:blip r:embed="rId4"/>
          <a:stretch/>
        </p:blipFill>
        <p:spPr>
          <a:xfrm>
            <a:off x="142920" y="1357200"/>
            <a:ext cx="3643200" cy="6429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5" descr=""/>
          <p:cNvPicPr/>
          <p:nvPr/>
        </p:nvPicPr>
        <p:blipFill>
          <a:blip r:embed="rId5"/>
          <a:stretch/>
        </p:blipFill>
        <p:spPr>
          <a:xfrm>
            <a:off x="142920" y="2049480"/>
            <a:ext cx="3643200" cy="3078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5" descr=""/>
          <p:cNvPicPr/>
          <p:nvPr/>
        </p:nvPicPr>
        <p:blipFill>
          <a:blip r:embed="rId6"/>
          <a:stretch/>
        </p:blipFill>
        <p:spPr>
          <a:xfrm>
            <a:off x="71280" y="2406600"/>
            <a:ext cx="4500720" cy="3081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"/>
          <p:cNvPicPr/>
          <p:nvPr/>
        </p:nvPicPr>
        <p:blipFill>
          <a:blip r:embed="rId7"/>
          <a:stretch/>
        </p:blipFill>
        <p:spPr>
          <a:xfrm>
            <a:off x="142920" y="2763720"/>
            <a:ext cx="4500360" cy="3081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5" descr=""/>
          <p:cNvPicPr/>
          <p:nvPr/>
        </p:nvPicPr>
        <p:blipFill>
          <a:blip r:embed="rId8"/>
          <a:stretch/>
        </p:blipFill>
        <p:spPr>
          <a:xfrm>
            <a:off x="142920" y="3184560"/>
            <a:ext cx="4500360" cy="3063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5" descr=""/>
          <p:cNvPicPr/>
          <p:nvPr/>
        </p:nvPicPr>
        <p:blipFill>
          <a:blip r:embed="rId9"/>
          <a:stretch/>
        </p:blipFill>
        <p:spPr>
          <a:xfrm>
            <a:off x="142920" y="3549600"/>
            <a:ext cx="4500360" cy="3081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5" descr=""/>
          <p:cNvPicPr/>
          <p:nvPr/>
        </p:nvPicPr>
        <p:blipFill>
          <a:blip r:embed="rId10"/>
          <a:stretch/>
        </p:blipFill>
        <p:spPr>
          <a:xfrm>
            <a:off x="214200" y="3906720"/>
            <a:ext cx="4500720" cy="3081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"/>
          <p:cNvPicPr/>
          <p:nvPr/>
        </p:nvPicPr>
        <p:blipFill>
          <a:blip r:embed="rId11"/>
          <a:stretch/>
        </p:blipFill>
        <p:spPr>
          <a:xfrm>
            <a:off x="6232680" y="2786040"/>
            <a:ext cx="19285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2" descr=""/>
          <p:cNvPicPr/>
          <p:nvPr/>
        </p:nvPicPr>
        <p:blipFill>
          <a:blip r:embed="rId1"/>
          <a:stretch/>
        </p:blipFill>
        <p:spPr>
          <a:xfrm>
            <a:off x="142920" y="743040"/>
            <a:ext cx="5781600" cy="1257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2"/>
          <a:stretch/>
        </p:blipFill>
        <p:spPr>
          <a:xfrm>
            <a:off x="214200" y="2143080"/>
            <a:ext cx="8182080" cy="46195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5" descr=""/>
          <p:cNvPicPr/>
          <p:nvPr/>
        </p:nvPicPr>
        <p:blipFill>
          <a:blip r:embed="rId3"/>
          <a:stretch/>
        </p:blipFill>
        <p:spPr>
          <a:xfrm>
            <a:off x="7786800" y="2446200"/>
            <a:ext cx="374400" cy="3081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5" descr=""/>
          <p:cNvPicPr/>
          <p:nvPr/>
        </p:nvPicPr>
        <p:blipFill>
          <a:blip r:embed="rId4"/>
          <a:stretch/>
        </p:blipFill>
        <p:spPr>
          <a:xfrm>
            <a:off x="7715160" y="3786120"/>
            <a:ext cx="374760" cy="3081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5"/>
          <a:stretch/>
        </p:blipFill>
        <p:spPr>
          <a:xfrm>
            <a:off x="714240" y="5116680"/>
            <a:ext cx="785880" cy="3063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5" descr=""/>
          <p:cNvPicPr/>
          <p:nvPr/>
        </p:nvPicPr>
        <p:blipFill>
          <a:blip r:embed="rId6"/>
          <a:stretch/>
        </p:blipFill>
        <p:spPr>
          <a:xfrm>
            <a:off x="3446640" y="5121360"/>
            <a:ext cx="785520" cy="3078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7"/>
          <a:stretch/>
        </p:blipFill>
        <p:spPr>
          <a:xfrm>
            <a:off x="5724360" y="5116680"/>
            <a:ext cx="37476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2" descr=""/>
          <p:cNvPicPr/>
          <p:nvPr/>
        </p:nvPicPr>
        <p:blipFill>
          <a:blip r:embed="rId1"/>
          <a:stretch/>
        </p:blipFill>
        <p:spPr>
          <a:xfrm>
            <a:off x="447840" y="1066680"/>
            <a:ext cx="8248320" cy="53625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" descr=""/>
          <p:cNvPicPr/>
          <p:nvPr/>
        </p:nvPicPr>
        <p:blipFill>
          <a:blip r:embed="rId2"/>
          <a:stretch/>
        </p:blipFill>
        <p:spPr>
          <a:xfrm>
            <a:off x="571680" y="1071720"/>
            <a:ext cx="7500600" cy="3078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5" descr=""/>
          <p:cNvPicPr/>
          <p:nvPr/>
        </p:nvPicPr>
        <p:blipFill>
          <a:blip r:embed="rId3"/>
          <a:stretch/>
        </p:blipFill>
        <p:spPr>
          <a:xfrm>
            <a:off x="571680" y="1424160"/>
            <a:ext cx="7500600" cy="3078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" descr=""/>
          <p:cNvPicPr/>
          <p:nvPr/>
        </p:nvPicPr>
        <p:blipFill>
          <a:blip r:embed="rId4"/>
          <a:stretch/>
        </p:blipFill>
        <p:spPr>
          <a:xfrm>
            <a:off x="473040" y="1731960"/>
            <a:ext cx="7500960" cy="3078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"/>
          <p:cNvPicPr/>
          <p:nvPr/>
        </p:nvPicPr>
        <p:blipFill>
          <a:blip r:embed="rId5"/>
          <a:stretch/>
        </p:blipFill>
        <p:spPr>
          <a:xfrm>
            <a:off x="473040" y="2085840"/>
            <a:ext cx="7500960" cy="3063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"/>
          <p:cNvPicPr/>
          <p:nvPr/>
        </p:nvPicPr>
        <p:blipFill>
          <a:blip r:embed="rId6"/>
          <a:stretch/>
        </p:blipFill>
        <p:spPr>
          <a:xfrm>
            <a:off x="428760" y="2419200"/>
            <a:ext cx="7500960" cy="3081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7"/>
          <a:stretch/>
        </p:blipFill>
        <p:spPr>
          <a:xfrm>
            <a:off x="428760" y="2773440"/>
            <a:ext cx="7500960" cy="3078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5" descr=""/>
          <p:cNvPicPr/>
          <p:nvPr/>
        </p:nvPicPr>
        <p:blipFill>
          <a:blip r:embed="rId8"/>
          <a:stretch/>
        </p:blipFill>
        <p:spPr>
          <a:xfrm>
            <a:off x="8037360" y="3835440"/>
            <a:ext cx="374760" cy="3078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5" descr=""/>
          <p:cNvPicPr/>
          <p:nvPr/>
        </p:nvPicPr>
        <p:blipFill>
          <a:blip r:embed="rId9"/>
          <a:stretch/>
        </p:blipFill>
        <p:spPr>
          <a:xfrm>
            <a:off x="8001000" y="5429160"/>
            <a:ext cx="374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2" descr=""/>
          <p:cNvPicPr/>
          <p:nvPr/>
        </p:nvPicPr>
        <p:blipFill>
          <a:blip r:embed="rId1"/>
          <a:stretch/>
        </p:blipFill>
        <p:spPr>
          <a:xfrm>
            <a:off x="476280" y="1057320"/>
            <a:ext cx="8191440" cy="52293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5" descr=""/>
          <p:cNvPicPr/>
          <p:nvPr/>
        </p:nvPicPr>
        <p:blipFill>
          <a:blip r:embed="rId2"/>
          <a:stretch/>
        </p:blipFill>
        <p:spPr>
          <a:xfrm>
            <a:off x="857160" y="1357200"/>
            <a:ext cx="588960" cy="3081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5" descr=""/>
          <p:cNvPicPr/>
          <p:nvPr/>
        </p:nvPicPr>
        <p:blipFill>
          <a:blip r:embed="rId3"/>
          <a:stretch/>
        </p:blipFill>
        <p:spPr>
          <a:xfrm>
            <a:off x="2214720" y="1357200"/>
            <a:ext cx="642960" cy="3081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5" descr=""/>
          <p:cNvPicPr/>
          <p:nvPr/>
        </p:nvPicPr>
        <p:blipFill>
          <a:blip r:embed="rId4"/>
          <a:stretch/>
        </p:blipFill>
        <p:spPr>
          <a:xfrm>
            <a:off x="642960" y="3367080"/>
            <a:ext cx="8143920" cy="5716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5" descr=""/>
          <p:cNvPicPr/>
          <p:nvPr/>
        </p:nvPicPr>
        <p:blipFill>
          <a:blip r:embed="rId5"/>
          <a:stretch/>
        </p:blipFill>
        <p:spPr>
          <a:xfrm>
            <a:off x="642960" y="3990960"/>
            <a:ext cx="8143920" cy="3081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5" descr=""/>
          <p:cNvPicPr/>
          <p:nvPr/>
        </p:nvPicPr>
        <p:blipFill>
          <a:blip r:embed="rId6"/>
          <a:stretch/>
        </p:blipFill>
        <p:spPr>
          <a:xfrm>
            <a:off x="714240" y="4317840"/>
            <a:ext cx="8143920" cy="3081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5" descr=""/>
          <p:cNvPicPr/>
          <p:nvPr/>
        </p:nvPicPr>
        <p:blipFill>
          <a:blip r:embed="rId7"/>
          <a:stretch/>
        </p:blipFill>
        <p:spPr>
          <a:xfrm>
            <a:off x="642960" y="4643280"/>
            <a:ext cx="8143920" cy="3081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5" descr=""/>
          <p:cNvPicPr/>
          <p:nvPr/>
        </p:nvPicPr>
        <p:blipFill>
          <a:blip r:embed="rId8"/>
          <a:stretch/>
        </p:blipFill>
        <p:spPr>
          <a:xfrm>
            <a:off x="642960" y="4978440"/>
            <a:ext cx="8143920" cy="3078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5" descr=""/>
          <p:cNvPicPr/>
          <p:nvPr/>
        </p:nvPicPr>
        <p:blipFill>
          <a:blip r:embed="rId9"/>
          <a:stretch/>
        </p:blipFill>
        <p:spPr>
          <a:xfrm>
            <a:off x="642960" y="5335560"/>
            <a:ext cx="8143920" cy="3081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5" descr=""/>
          <p:cNvPicPr/>
          <p:nvPr/>
        </p:nvPicPr>
        <p:blipFill>
          <a:blip r:embed="rId10"/>
          <a:stretch/>
        </p:blipFill>
        <p:spPr>
          <a:xfrm>
            <a:off x="642960" y="5715000"/>
            <a:ext cx="81439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2" descr=""/>
          <p:cNvPicPr/>
          <p:nvPr/>
        </p:nvPicPr>
        <p:blipFill>
          <a:blip r:embed="rId1"/>
          <a:stretch/>
        </p:blipFill>
        <p:spPr>
          <a:xfrm>
            <a:off x="299880" y="747720"/>
            <a:ext cx="8544240" cy="60390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5" descr=""/>
          <p:cNvPicPr/>
          <p:nvPr/>
        </p:nvPicPr>
        <p:blipFill>
          <a:blip r:embed="rId2"/>
          <a:stretch/>
        </p:blipFill>
        <p:spPr>
          <a:xfrm>
            <a:off x="7983360" y="2371680"/>
            <a:ext cx="552600" cy="3938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5" descr=""/>
          <p:cNvPicPr/>
          <p:nvPr/>
        </p:nvPicPr>
        <p:blipFill>
          <a:blip r:embed="rId3"/>
          <a:stretch/>
        </p:blipFill>
        <p:spPr>
          <a:xfrm>
            <a:off x="7921800" y="4098960"/>
            <a:ext cx="55224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1" descr=""/>
          <p:cNvPicPr/>
          <p:nvPr/>
        </p:nvPicPr>
        <p:blipFill>
          <a:blip r:embed="rId1"/>
          <a:stretch/>
        </p:blipFill>
        <p:spPr>
          <a:xfrm>
            <a:off x="343080" y="1057320"/>
            <a:ext cx="8458200" cy="53719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5" descr=""/>
          <p:cNvPicPr/>
          <p:nvPr/>
        </p:nvPicPr>
        <p:blipFill>
          <a:blip r:embed="rId2"/>
          <a:stretch/>
        </p:blipFill>
        <p:spPr>
          <a:xfrm>
            <a:off x="4098960" y="4564080"/>
            <a:ext cx="55224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1" descr=""/>
          <p:cNvPicPr/>
          <p:nvPr/>
        </p:nvPicPr>
        <p:blipFill>
          <a:blip r:embed="rId1"/>
          <a:stretch/>
        </p:blipFill>
        <p:spPr>
          <a:xfrm>
            <a:off x="628560" y="843120"/>
            <a:ext cx="7886880" cy="58006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5" descr=""/>
          <p:cNvPicPr/>
          <p:nvPr/>
        </p:nvPicPr>
        <p:blipFill>
          <a:blip r:embed="rId2"/>
          <a:stretch/>
        </p:blipFill>
        <p:spPr>
          <a:xfrm>
            <a:off x="431640" y="2557440"/>
            <a:ext cx="8390160" cy="9320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5" descr=""/>
          <p:cNvPicPr/>
          <p:nvPr/>
        </p:nvPicPr>
        <p:blipFill>
          <a:blip r:embed="rId3"/>
          <a:stretch/>
        </p:blipFill>
        <p:spPr>
          <a:xfrm>
            <a:off x="507960" y="3538440"/>
            <a:ext cx="8388360" cy="3920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5" descr=""/>
          <p:cNvPicPr/>
          <p:nvPr/>
        </p:nvPicPr>
        <p:blipFill>
          <a:blip r:embed="rId4"/>
          <a:stretch/>
        </p:blipFill>
        <p:spPr>
          <a:xfrm>
            <a:off x="490680" y="3952800"/>
            <a:ext cx="8389800" cy="3920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5" descr=""/>
          <p:cNvPicPr/>
          <p:nvPr/>
        </p:nvPicPr>
        <p:blipFill>
          <a:blip r:embed="rId5"/>
          <a:stretch/>
        </p:blipFill>
        <p:spPr>
          <a:xfrm>
            <a:off x="474840" y="4438800"/>
            <a:ext cx="8388000" cy="392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5" descr=""/>
          <p:cNvPicPr/>
          <p:nvPr/>
        </p:nvPicPr>
        <p:blipFill>
          <a:blip r:embed="rId6"/>
          <a:stretch/>
        </p:blipFill>
        <p:spPr>
          <a:xfrm>
            <a:off x="457200" y="4853160"/>
            <a:ext cx="8389800" cy="3920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5" descr=""/>
          <p:cNvPicPr/>
          <p:nvPr/>
        </p:nvPicPr>
        <p:blipFill>
          <a:blip r:embed="rId7"/>
          <a:stretch/>
        </p:blipFill>
        <p:spPr>
          <a:xfrm>
            <a:off x="441360" y="5338800"/>
            <a:ext cx="8388360" cy="39204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5" descr=""/>
          <p:cNvPicPr/>
          <p:nvPr/>
        </p:nvPicPr>
        <p:blipFill>
          <a:blip r:embed="rId8"/>
          <a:stretch/>
        </p:blipFill>
        <p:spPr>
          <a:xfrm>
            <a:off x="425520" y="5753160"/>
            <a:ext cx="8388360" cy="3920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" descr=""/>
          <p:cNvPicPr/>
          <p:nvPr/>
        </p:nvPicPr>
        <p:blipFill>
          <a:blip r:embed="rId9"/>
          <a:stretch/>
        </p:blipFill>
        <p:spPr>
          <a:xfrm>
            <a:off x="407880" y="6238800"/>
            <a:ext cx="83901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2:09:53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